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907560" cy="6742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5271840" y="6315120"/>
            <a:ext cx="425916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6B0D1D5B-A7AB-40BC-88FC-0A5FFF8B41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3286080" y="519120"/>
            <a:ext cx="338760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38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524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8DCC-8D8C-4CF1-95FA-B0FE62F077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D9E6-439F-4A59-BF9E-D1277EC9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981D-A81A-4B9E-867F-D04B31FA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8055-17C3-49F9-B746-4341E269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6515-DC2A-40FF-9AC2-78D33848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D9A7-A85F-4D86-B4C9-DD4949C3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9E89-C38E-4FAF-AFE3-2D51A010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395B-2A9D-4DB1-8E75-52674D15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94F4-AD97-48EF-9039-300A5135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4DF4-4106-4DC9-9EFD-D27176BB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AD0D-6AD5-4527-8322-F904F2D5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12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4480" y="1676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12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4480" y="3944520"/>
            <a:ext cx="25264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6E23-8142-4170-8B28-E080AF4C87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9280" y="3944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9280" y="1676520"/>
            <a:ext cx="382932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4520"/>
            <a:ext cx="7847280" cy="20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676520"/>
            <a:ext cx="7847280" cy="43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ITK 2008      T.Tammet    Programmeerimine: sorteerimine  lk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A0D58E81-3D45-4604-B376-0531ACE65A45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79A64-7255-4A1B-8B9E-0365CE03ACC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ath.hws.edu/TMCM/java/xSortLab/" TargetMode="External"/><Relationship Id="rId2" Type="http://schemas.openxmlformats.org/officeDocument/2006/relationships/hyperlink" Target="http://www.cs.ubc.ca/spider/harrison/Java/sorting-demo.html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algkur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binaarne otsing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sorteerim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out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A.length &gt; 1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plit the array into two piece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s close to the same size as possi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first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0, A.length/2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last 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A.length/2, A.length);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ort each of the two halves recursiv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fir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la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merge the two sorted halves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first, las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4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splitting function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extract: returns a subarray of A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starting with index start in A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continuing to (but not including) index la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int[]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start, int last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[] ret = new int[last - start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int i = 0; i &lt; ret.length; i++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[i] = A[start + 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 re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5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merging function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merge: merges arrays a and b, placing the result in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rray dest. This only works if both a and b are already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increasing ord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dest, int[] a, int[] b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(i &lt; a.length &amp;&amp; j &lt; b.length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(a[i] &lt; b[j]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dest[i + j] = a[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dest[i + j] = b[j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++j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; i &lt; a.length; i++) dest[i + j] = a[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for(; j &lt; b.length; j++) dest[i + j] = b[j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5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normally fast, N*log(N) in average ca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8153640" cy="56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Complexity: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N*log(N) in average case, but N*N in worst case. However, in practice typically a bit faster than always N*log(N) algorith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ice property: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oes not need extra memory for temporary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is a bit similar to mergesor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plit an array into two parts (not necessarily equal size) so that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all elements in first part are smaller than all elements of the second par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 order to do that, pick a probably-average-size element (pivot)  to split an array into smaller-element and larger-element sub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all quicksort recursively on both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inally everything is sort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B!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Quicksort performs badly if we have no luck when choosing pivot. In worst case, one half of array contains just one eleme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out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610840" cy="562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lo, int hi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&lt;= lo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he list has length one or zero.  Nothing n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o be done, so just return from the subrout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Apply quicksortStep and get the pivot pos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Then apply quicksort to sort the items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// precede the pivot and the items that follow 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pivotPosition =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Step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lo, hi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(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, lo, pivotPosition - 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A, pivotPosition + 1, hi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6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Quicksort:  inner part of the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5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static int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quicksortStep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(int[] A, int lo, int hi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nt pivot = A[lo];  // Get the pivot value.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) {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 &amp;&amp; A[hi] &gt; pivot) hi--;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== lo) break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lo] = A[hi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lo++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while (hi &gt; lo &amp;&amp; A[lo] &lt; pivot) lo++;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if (hi == lo) break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hi] = A[lo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hi--;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// end while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A[lo] = pivo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return lo;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}  // end QuicksortSte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4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orting: some comparis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e will have a look at the sorting applets running in parallel and Eck sorting lab timing 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math.hws.edu/TMCM/java/xSortLab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 u="sng">
                <a:solidFill>
                  <a:srgbClr val="ccccff"/>
                </a:solidFill>
                <a:uFillTx/>
                <a:latin typeface="Courier New"/>
                <a:hlinkClick r:id="rId2"/>
              </a:rPr>
              <a:t>http://www.cs.ubc.ca/spider/harrison/Java/sorting-demo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7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Loengu sisu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8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arne ot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eeri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eglased sorteerimisalgoritmid: keerukus N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rge sort: keerukus N*log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Quicksort: hea keskmine keerukus, halb halvim ju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Võrdlusi ja näit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9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inaarne otsin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vl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0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S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aive, simple sorting algorithms ta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*N trie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(quadratic time) in worst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amples: bubble sort, insertion sort, selection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ptimal algorithms (several meanings of “optimal”) ta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N*log(N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ries in worst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amples: merge sort, heap 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ssibly infinite number of different sorting algorithms can be devi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or example, “Quicksort” is bad on worst case, but very good on average ca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0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 (slow): partial algorithm at fir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void insert(int[] A, int itemsInArray, int newItem) {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loc = itemsInArray - 1;  // Start at the end of the array.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/* Move items bigger than newItem up one spac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op when a smaller item is encountered or when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beginning of the array (loc == 0) is reached. */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while (loc &gt;= 0 &amp;&amp; A[loc] &gt; newItem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A[loc];  // Bump item from A[loc] up to loc+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loc = loc - 1;        // Go on to next location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newItem;  // Put newItem in last vacated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1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: full algorith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55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shift each next element to a right place in a sorted part of arr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static void insertionSort(int[] A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itemsSorted; // Number of items that have been sorted so f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for (itemsSorted = 1; itemsSorted &lt; A.length; itemsSorted++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temp = A[itemsSorted];  // The item to be inser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int loc = itemsSorted - 1;  // Start at end of list.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while (loc &gt;= 0 &amp;&amp; A[loc] &gt; temp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A[loc]; // Bump item from A[loc] up to loc+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loc = loc - 1;       // Go on to next location</a:t>
            </a:r>
            <a:r>
              <a:rPr b="1" lang="et-EE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A[loc + 1] = temp; // Put temp in last vacated spa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15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sertion sor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13480" cy="529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ergesort: fast, N*log(N) in worst ca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153640" cy="55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&lt;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n the array is already sorted. Stop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wise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&gt;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we perform the following three steps in seque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t the left half of the the arr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t the right half of the the arr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ge the now-sorted left and right hal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irst phase, recursively split an array into small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cond phase: merge sorted parts, preserving right or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hy it works fast: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rging two sorted arrays into one is simple and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omplexity (speed):  X*X   &gt;   2 * ((X/2)*(X/2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2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7618320" y="3124080"/>
            <a:ext cx="308160" cy="30492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05920" y="3505320"/>
            <a:ext cx="30456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505320"/>
            <a:ext cx="30492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31240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389720" y="3505320"/>
            <a:ext cx="231840" cy="38088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075520" y="3581280"/>
            <a:ext cx="231840" cy="30492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4956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694640" y="4495680"/>
            <a:ext cx="23184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495680"/>
            <a:ext cx="38088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8456760" y="4495680"/>
            <a:ext cx="7920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151840" y="4952880"/>
            <a:ext cx="23184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4952880"/>
            <a:ext cx="304920" cy="381240"/>
          </a:xfrm>
          <a:prstGeom prst="line">
            <a:avLst/>
          </a:prstGeom>
          <a:ln w="255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Explanation of how we get time N*log(N)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302760"/>
            <a:ext cx="7772400" cy="306720"/>
            <a:chOff x="914400" y="302760"/>
            <a:chExt cx="7772400" cy="306720"/>
          </a:xfrm>
        </p:grpSpPr>
        <p:sp>
          <p:nvSpPr>
            <p:cNvPr id="14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685360" y="302760"/>
              <a:ext cx="1440" cy="3049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22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5-10-31T07:18:44Z</dcterms:modified>
  <cp:revision>16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tu.ee/it/vorgutarkvara/wai404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utputDir">
    <vt:lpwstr>C:\tty\javakursus</vt:lpwstr>
  </property>
  <property fmtid="{D5CDD505-2E9C-101B-9397-08002B2CF9AE}" pid="13" name="ScreenSize">
    <vt:r8>2</vt:r8>
  </property>
  <property fmtid="{D5CDD505-2E9C-101B-9397-08002B2CF9AE}" pid="14" name="ScreenUsage">
    <vt:r8>2</vt:r8>
  </property>
  <property fmtid="{D5CDD505-2E9C-101B-9397-08002B2CF9AE}" pid="15" name="ShowNotes">
    <vt:bool>0</vt:bool>
  </property>
  <property fmtid="{D5CDD505-2E9C-101B-9397-08002B2CF9AE}" pid="16" name="TemplateType">
    <vt:r8>1</vt:r8>
  </property>
  <property fmtid="{D5CDD505-2E9C-101B-9397-08002B2CF9AE}" pid="17" name="TextColor">
    <vt:r8>0</vt:r8>
  </property>
  <property fmtid="{D5CDD505-2E9C-101B-9397-08002B2CF9AE}" pid="18" name="TransparentButton">
    <vt:r8>0</vt:r8>
  </property>
  <property fmtid="{D5CDD505-2E9C-101B-9397-08002B2CF9AE}" pid="19" name="UseBrowserColor">
    <vt:bool>1</vt:bool>
  </property>
  <property fmtid="{D5CDD505-2E9C-101B-9397-08002B2CF9AE}" pid="20" name="VisitedColor">
    <vt:r8>10040268</vt:r8>
  </property>
</Properties>
</file>